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5EC8-A271-4C2B-BA67-78D16D17D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CD9E-C991-4D6E-9694-36A50406D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death rate in switz = 9 per 1000 in sierra leone = 30 per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16E3-6244-40A5-B661-9A0B12A19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by bo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www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 = bulge in 35 - 45 year ag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bulge as these boomers have k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by boom bulge is moving on through the 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tage different pressures were put n social and economic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ded element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age- greater pressure on social services, medicare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AE72-C59C-49DB-9195-450A636D4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estimated that if Bangladesh adopted Sri Lanka’s marriage pattern families would have 2.2 fewer k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er marriage age = 40 - 50% drop in fertility to achieve ) populations growth for many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has laws about this :   marriage = age  20 for females and 22 for 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 rate  = 5.7 in 1972 to 2.1 in 19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= 0 pop growth by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this been achie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25EA-DD3B-40BA-966A-08897DA26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planning = abstinence, sterilization, the pill, contracept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rtion:  45 - 60 million annu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rtion rate = # per 1000 women (in US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rtion ratio = # per live births (in US = 33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0440-D200-46E1-8CDE-742E39161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to generalize for different nations.  Different belief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 inn 1952 was first country with formal pop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policy for diff. Nations diff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ive out only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so supply the material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AB2E-98D5-449D-B6B4-E2B8C48B1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ing time changes quickly as growth rate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, Aust, Germ, GB = 7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=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exp growth would eventually deplete all the matter in the universe (pg 8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AF79-F039-4F06-8943-FF78AEB52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in the US - the inflection point was assumed in the 193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ed pop was then estimated at 200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we have 260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91C7-F1E2-48D4-A4ED-686B200A1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nations are struggling to shift from #2to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#3 parents must believe a small family is to their bene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 industrialized country @ stage 3 could cycle through all the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 if health improvements increase for aging and chro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88A-255D-457B-9F16-0112554F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C7E-BADF-43B5-A96A-6421ACD4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845-F7CC-4525-8052-57755EC9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67A-B29D-4454-B7DE-79E983B1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042-6901-4BB4-8964-63F406FD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690-2E21-43E8-A2A7-6029FA08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6F4-5D19-48E7-BA11-344509F1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5EF-2606-499B-AA38-81D84905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A2E-BE5B-449A-BD19-7692C25D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8DC-A071-4334-87A8-3E3A7473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723-8B7F-4B12-AAD6-34B1DC43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BB9-7F15-4CA6-9676-4A40E849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8485-F65E-49A6-B93D-CD1B9F34F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pter 4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Human Population as an Environmental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opulation and Techn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2 main da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mpact of each per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 = 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ast: local and not long la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Today: Not local and long last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5965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752480" y="60958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g. 6.15 This figure shows population profiles for developed and developing countries, projected to the year 20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828800" y="27432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d living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2971800" y="30477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943600" y="2438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617184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-3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240"/>
            <a:ext cx="80773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cute or epidemic dis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f a problem in develop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hronic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f a problem in developed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81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ge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proportion of the pop. that is in each a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Typical Pyramids"/>
          <p:cNvPicPr/>
          <p:nvPr/>
        </p:nvPicPr>
        <p:blipFill>
          <a:blip r:embed="rId1"/>
          <a:stretch/>
        </p:blipFill>
        <p:spPr>
          <a:xfrm>
            <a:off x="380880" y="457200"/>
            <a:ext cx="8534520" cy="61516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09480" y="45720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women in their childbearing year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jected to increase through 20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children per woman (TFR) is declining but…..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e absolute number of babies being born continues to increase because of the increases in the total number of women of childbearing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How to  Slow Population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and most effective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lay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lay the onset of having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ducate and raise 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81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45820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irth Control in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reast fee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mily plan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b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81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ional Pro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untries have some official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policy.  Effectivenes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57200" y="567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Developing countr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present a larger and larger share of world population because of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higher populations and higher birth ra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4267080" y="1600200"/>
            <a:ext cx="365760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BIG PLAYERS IN THE FUTU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648320" y="1905120"/>
            <a:ext cx="3504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eet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eo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75248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2400"/>
                </a:solidFill>
                <a:latin typeface="Times New Roman"/>
              </a:rPr>
              <a:t>For most of human history, population grew slowly, but in modern times it has  suddenly "exploded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19320" y="6248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V="1">
            <a:off x="1600200" y="5638320"/>
            <a:ext cx="304920" cy="6858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128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dustrial r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4952880" y="4191120"/>
            <a:ext cx="0" cy="1143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Projecting Population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oubling ti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assume exp.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70/annual growth rate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ed the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Rule of 70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sensitive to grow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324480" y="64008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228600"/>
            <a:ext cx="5334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2400"/>
                </a:solidFill>
                <a:latin typeface="Arial"/>
              </a:rPr>
              <a:t>Doubling time changes rapidly with the population grow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5_6"/>
          <p:cNvPicPr/>
          <p:nvPr/>
        </p:nvPicPr>
        <p:blipFill>
          <a:blip r:embed="rId1"/>
          <a:stretch/>
        </p:blipFill>
        <p:spPr>
          <a:xfrm>
            <a:off x="1905120" y="1371600"/>
            <a:ext cx="6095880" cy="511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228600" y="4495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less time to double if high growth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oubling Time Examp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83822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edicting HP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at which logistic the pop grow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e begins to slow toward carry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is called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flection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probably not there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The Demographic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stage pattern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eads to dec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n growth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 Improvemen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Pop. still grow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Birth rate dro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4:46:49Z</dcterms:created>
  <dc:creator>Amy Chan</dc:creator>
  <dc:description/>
  <dc:language>en-US</dc:language>
  <cp:lastModifiedBy>infosys</cp:lastModifiedBy>
  <dcterms:modified xsi:type="dcterms:W3CDTF">2016-09-08T19:11:12Z</dcterms:modified>
  <cp:revision>49</cp:revision>
  <dc:subject/>
  <dc:title>Chapter 5 - Human Population as an Environmental Problem</dc:title>
</cp:coreProperties>
</file>